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2C6-9E1A-4A57-872D-3774510E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7BA-DC98-4C73-867A-03CF6148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AB8-77A6-4B9D-B4E0-156224FD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9EC-B8A7-4A9A-A4A0-435FE678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088-34D8-4ED7-B4BE-99963CD5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ED5-5137-4F0B-9693-C5CE6A28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080-4622-4302-A8D2-F9842A44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76B-8CB2-4924-AE46-8A267A9C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ABE-01F8-4521-AB48-419CDA0C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BB2-1771-4D0A-8E3B-13958EE0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B0E-7481-4632-BCF3-0A55A409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143-95F2-444D-876C-34106342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07A8-F19C-4984-86E7-9E29731E7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_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ase 8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8 de enero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cuchas a los profes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b0f0"/>
                </a:solidFill>
                <a:latin typeface="Arial"/>
              </a:rPr>
              <a:t>TOMAR </a:t>
            </a:r>
            <a:r>
              <a:rPr b="1" i="1" lang="es-ES_tradnl" sz="2800" spc="-1" strike="noStrike" u="sng">
                <a:solidFill>
                  <a:srgbClr val="00b0f0"/>
                </a:solidFill>
                <a:uFillTx/>
                <a:latin typeface="Arial"/>
              </a:rPr>
              <a:t>QUIZ: REPASO 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the following expresion in a sentence; don’t forget to conjugate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ar mucho (to study a l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apuntes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take class no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tar atenció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pay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car notas (to get gra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685800"/>
          <a:ext cx="9144000" cy="6013440"/>
        </p:xfrm>
        <a:graphic>
          <a:graphicData uri="http://schemas.openxmlformats.org/drawingml/2006/table">
            <a:tbl>
              <a:tblPr/>
              <a:tblGrid>
                <a:gridCol w="1946160"/>
                <a:gridCol w="1787760"/>
                <a:gridCol w="1752480"/>
                <a:gridCol w="1827360"/>
                <a:gridCol w="1830240"/>
              </a:tblGrid>
              <a:tr h="168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ai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da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o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 instru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i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watc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repa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prepa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32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76320" y="2666880"/>
            <a:ext cx="1528560" cy="1528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1866960" cy="16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505320" y="2833560"/>
            <a:ext cx="1050840" cy="143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6354720" y="2666880"/>
            <a:ext cx="111276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7620120" y="2895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6"/>
          <a:stretch/>
        </p:blipFill>
        <p:spPr>
          <a:xfrm>
            <a:off x="6858000" y="4948200"/>
            <a:ext cx="647640" cy="1604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7"/>
          <a:stretch/>
        </p:blipFill>
        <p:spPr>
          <a:xfrm>
            <a:off x="4809960" y="2743200"/>
            <a:ext cx="1209960" cy="149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8"/>
          <a:stretch/>
        </p:blipFill>
        <p:spPr>
          <a:xfrm>
            <a:off x="4800600" y="4572000"/>
            <a:ext cx="1487520" cy="1547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3"/>
          <p:cNvSpPr/>
          <p:nvPr/>
        </p:nvSpPr>
        <p:spPr>
          <a:xfrm>
            <a:off x="76320" y="42973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e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414504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200400" y="4191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ntal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876920" y="42210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l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324480" y="4267080"/>
            <a:ext cx="106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fal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7543800" y="422100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zap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4876920" y="61261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u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7467480" y="55627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rb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2362320" y="8380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ationary S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1828800" y="14479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1600200" y="19810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loth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523880" y="6126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1905120" cy="1587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2514600" y="1436760"/>
            <a:ext cx="1676520" cy="1306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4572000" y="1143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6934320" y="129528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1523880" cy="147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6"/>
          <a:stretch/>
        </p:blipFill>
        <p:spPr>
          <a:xfrm>
            <a:off x="1523880" y="4632480"/>
            <a:ext cx="1447920" cy="1052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7"/>
          <a:stretch/>
        </p:blipFill>
        <p:spPr>
          <a:xfrm>
            <a:off x="3352680" y="419112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8"/>
          <a:stretch/>
        </p:blipFill>
        <p:spPr>
          <a:xfrm>
            <a:off x="4964040" y="4495680"/>
            <a:ext cx="1055880" cy="122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9"/>
          <a:stretch/>
        </p:blipFill>
        <p:spPr>
          <a:xfrm>
            <a:off x="6553080" y="4114800"/>
            <a:ext cx="2200320" cy="1708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383040" y="28954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stud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453400" y="28954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4852800" y="2895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a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7041600" y="30481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Ca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59520" y="5638680"/>
            <a:ext cx="18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c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la guitar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el pi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4046400" y="5638680"/>
            <a:ext cx="14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m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fo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6718680" y="5715000"/>
            <a:ext cx="21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ac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buenas 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malas 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Ma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n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705320" y="137160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ear, to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595880" y="18288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594800" y="228600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780920" y="28195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pre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91088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974240" y="37339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look for, to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823760" y="419112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651320" y="472428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676160" y="51814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1724040" y="55627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ish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5486400" y="9144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692000" y="60958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ar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622560" y="1371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7196400" y="182880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6973560" y="22860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7020360" y="2819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7177320" y="32767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6687720" y="3733920"/>
            <a:ext cx="5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6856920" y="419112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RESENTE DE LOS VERBOS -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7:41:10Z</dcterms:created>
  <dc:creator>Helen Zumaeta</dc:creator>
  <dc:description/>
  <dc:language>en-US</dc:language>
  <cp:lastModifiedBy>Helen Zumaeta</cp:lastModifiedBy>
  <cp:lastPrinted>2014-09-17T16:21:23Z</cp:lastPrinted>
  <dcterms:modified xsi:type="dcterms:W3CDTF">2014-09-18T19:51:57Z</dcterms:modified>
  <cp:revision>14</cp:revision>
  <dc:subject/>
  <dc:title>Me llamo ___________ Clase 6 NH/IL La fecha es el 10 de enero del 2011</dc:title>
</cp:coreProperties>
</file>